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2A2-9707-48DD-8331-A319B802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DFA-DEC7-4AC1-94D4-1BB05337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CF129-0FE3-42F0-9798-6B0A9D77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B94FB-AF9E-4342-9D62-C0170E3E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99549-AB43-46F7-8A47-334550CC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F455C-A1B7-47F4-8B4F-8C84B190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607B4-1346-433F-89EB-B0B09E1A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C97D0-8CA1-4461-87E5-8A31ABA3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B19ED-BE09-4344-9207-110DFF5D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4BB1F-59F1-42E3-B001-F568F279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940B2-3ACA-4113-91FC-FD92A645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842-CC2B-4637-A74D-D913AA6C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885-5B68-4209-8FB3-7ED6134F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6DE3-EE29-45CD-BCF1-87B0227D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274C-7327-42F9-B58D-61F77E12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6642-D9A2-466B-9AB8-A658C66D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3F4F-444C-4108-BBB1-C553F06F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5985-FC3C-45B0-8B5A-0C49CF4D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2CCC-F546-4747-A180-738C1E09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C5A9-D782-4E46-A740-6A26DF8F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6BD-423A-4D44-9F49-3EA3D378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7A55-E144-4671-94DC-7940A347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2580-4F66-4D1A-96F7-671505E4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C169-D739-491F-A406-9875A1B0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2871-4BB4-4217-ABB5-01422F40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885B-D887-44BC-9361-7DBDF9B9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B743-1A2D-4027-9CB1-C7A0DB78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8016-3128-4595-9279-18FA6314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4D3A-B31F-4F91-8D3B-45F90855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AC29-45A7-444F-8129-5549A8B4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BE38-0CBD-4870-BC52-9220E484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5600-C586-4E3B-BA16-55201FDA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D3BC-4BAC-444E-B362-F82292C1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D3DB4-7BA6-47DB-917C-CEA48CBB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E7BE5-EAB3-420A-BF53-F2DC6003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EA47-7C69-4D02-925D-8DC07AAA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3988-9E4C-41EC-9721-F225F261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109B-A0B7-4D9E-B091-09FD8CE1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B8736-84AB-4D36-AC9B-459B3F52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1BD21-A538-48EE-BD54-63A02EF1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AE45-A8F0-4849-9841-C31D3284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FFD7B-073A-4799-A3A3-08CEEC8C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479-CC83-4F3E-8E6D-BD3D6066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01503-348D-425F-958A-44490E56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B6138-95DF-4F1A-B75B-ADFC3DE9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EFD45-D3E2-4550-97B7-44C9240E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816CF-40FC-4D35-9525-34BD818F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FB711-53BF-4E53-9DAE-CFA708AC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511AD-70C2-4A9E-AB80-0B31ED28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9CF07-0740-4F99-A70A-D1B45DA0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2BCA6-4BF7-4D20-AAFF-9BED6031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9357D-D1B1-4E35-83D3-46938A69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D73AE-C005-4A67-8B36-3AD72F23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E8E-92CA-4050-9CE7-1EDE56A7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8D3DB-FCE4-4690-A402-AC4EF5E9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366AB-1A73-451E-8E83-D4AE120F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A463D-A106-48D7-91F4-3B6F5AD2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A7F49-A1E0-4EB1-AE38-26E45CFD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124D0-6E80-4B9C-AAA1-A8A5129D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2DA33-A3F7-40ED-B3C4-8F7E7E2B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52E54-1584-4346-B63E-9CE59461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367CE-AC1A-4F0E-953A-AE48AE1A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24DCD-65A2-4606-B83B-A8ADDC9A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38521-813D-4159-8451-04FDC9EB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B5D-D0B4-4F97-A01E-743D27B0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9A7F5-04D6-4432-8CF0-1FAAE49D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5810D-68FA-409B-8308-02220F57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C5600-4002-4D87-B37C-8C57FD39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EB5C9-8C8B-484A-8053-602E5143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511DC-6CC7-4299-B441-1404B184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AC7DB-CCED-4031-9775-A5286840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95B4D-6219-42D7-8C8C-4AFF75D3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EAFC3-1F5E-470C-9125-CC80AB9C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F04B4-A370-4EB7-8BE8-D84D2C44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01701-E772-4B70-A644-42925BB4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86B-725B-4CA4-94C4-BB48E932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755A1-2E0D-4A8F-ABD4-09510F15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B1D77-97C9-4507-993F-F2A30ECB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A6603-FB7E-4F79-BC62-2F31CF8D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C20EA-536F-49ED-869E-B2FF2437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664F3-707C-45FB-812B-B036AE0A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C8AB6-2BCC-479E-AF07-7C366569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41C69-61BD-4467-9ADB-8250CCF6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A1D9A-932F-468E-97F5-8C52EC36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0D3B9-48F3-49B0-83DA-4D8357FE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20C15-4E14-4AE5-A354-973E3B6C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E6E-D07C-4A04-A108-86EEE25A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BC207-A665-4D56-BD85-76E935F0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DA429-1CF2-4E3B-97C3-C5D56B8D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BDD3D-CEBF-4C97-9500-509415C6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9779D-1988-45E4-AECB-D3E3E376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353A4-B845-402A-BD73-2728789E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F9004-11C9-4654-9E14-3654D399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EE521-24C8-468C-ACD2-7EF13234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865F4-BA39-4F28-8CB8-D71D5D57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5F2BB-D65F-4AB0-A0C9-A7DBFB22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E1802-0C40-48AE-95DF-234A6991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2A4-8EDF-48A2-AD38-33FFF2C7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FABD4-06A6-4DD2-8F2C-E5AB0BA5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D50C3-D2F1-4B2A-830D-16D1849C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A04C9-8284-422A-B5E3-AD501B11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1CF2A-403B-4420-B1E3-0C0CEA5B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61CF8-8925-4991-9922-D3FBED85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4F4D9-76D7-43ED-A4D6-63198D18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1C7BE-6184-4776-A94A-36D6EE5F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EC946-EE10-403D-B0CC-20204A17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E7454-D65C-4407-9F6B-12E87C79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FCE9F-95F1-40E7-BEF2-34A22B74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1724-2B3A-4D95-989C-38694934120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918C-8D5A-4B40-9828-023C02C34A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B448-F8F5-4F84-82C7-1834F9B5E5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8CB3-A526-4C7D-87C0-7A75C4E027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B707-F16A-4376-9EAE-A773F5EA016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21AE-C2E2-441C-BEE8-C08B179124C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9121-7A73-4BE6-B288-334FA0B5928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C8E7-1925-4763-A542-BD276C81D34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B41A-2445-4ADC-8232-F56C53C4CE2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lkVYQhSTTE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71360" y="401760"/>
            <a:ext cx="8759880" cy="2457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27640" y="3716280"/>
            <a:ext cx="26114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Автор: учитель биологии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ГБОУ ЦО №1456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Водопьянова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Марина Александровна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4e3b30"/>
                </a:solidFill>
                <a:latin typeface="Franklin Gothic Medium"/>
              </a:rPr>
              <a:t>ПОЧВА</a:t>
            </a:r>
            <a:endParaRPr b="0" lang="en-US" sz="11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2492280"/>
            <a:ext cx="8686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e3b30"/>
                </a:solidFill>
                <a:latin typeface="Franklin Gothic Book"/>
              </a:rPr>
              <a:t>это верхний плодородный слой земл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e3b30"/>
                </a:solidFill>
                <a:latin typeface="Franklin Gothic Medium"/>
              </a:rPr>
              <a:t>ТРУДНОСТИ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989000"/>
            <a:ext cx="86868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Почва очень плотная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 проникает свет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достаточно кислород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3b30"/>
                </a:solidFill>
                <a:latin typeface="Franklin Gothic Medium"/>
              </a:rPr>
              <a:t>ПОЛОЖИТЕЛЬНЫЕ СВОЙСТВА</a:t>
            </a:r>
            <a:endParaRPr b="0" lang="en-US" sz="5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Обеспечена водо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Много минеральных и органических веществ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Нет резких колебаний температуры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http://www.youtube.com/watch?v=DlkVYQhST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Franklin Gothic Medium"/>
              </a:rPr>
              <a:t>КРОТ</a:t>
            </a:r>
            <a:endParaRPr b="0" lang="en-US" sz="9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Franklin Gothic Medium"/>
              </a:rPr>
              <a:t>ЛИЧИНКА МАЙСКОГО ЖУКА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Medium"/>
              </a:rPr>
              <a:t>МЕДВЕДКА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94920" y="1052640"/>
            <a:ext cx="8435880" cy="45259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ОЧВА НАСЕЛЕНА МНОГОЧИСЛЕННЫМИ ОРГАНИЗМАМИ, КОТОРЫЕ НАХОДЯТСЯ В НЕЙ УСЛОВИЯ, БЛАГОПРИЯТНЫЕ ДЛЯ ЖИЗНИ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beec9"/>
                </a:solidFill>
                <a:latin typeface="Franklin Gothic Medium"/>
              </a:rPr>
              <a:t>КТО ЖИВЕТ В ПОЧВЕ</a:t>
            </a:r>
            <a:endParaRPr b="0" lang="en-US" sz="6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3:25:35Z</dcterms:created>
  <dc:creator>Пользователь</dc:creator>
  <dc:description/>
  <dc:language>en-US</dc:language>
  <cp:lastModifiedBy>Пользователь</cp:lastModifiedBy>
  <dcterms:modified xsi:type="dcterms:W3CDTF">2012-07-18T11:12:28Z</dcterms:modified>
  <cp:revision>14</cp:revision>
  <dc:subject/>
  <dc:title>Слайд 1</dc:title>
</cp:coreProperties>
</file>